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3.wmf" ContentType="image/x-wmf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7818-7C75-4EEC-813A-2D0B7AAE3BA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07E0-2397-4BD6-AF69-6EE5B6CCB1F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5C9C-6304-4752-A70D-01C17C0A724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E03B-361F-48BC-85B2-4AE837909C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0256-22BA-4052-B68C-B78AF9D152B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0533-6C04-490E-9C12-E1BF75065F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25F5-DF33-4538-94FA-365A0DF21A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94A6-0423-4FA3-A415-BB1917F8660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9E63-CDDC-403C-B62F-C266E4E0659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DE6F-3444-4A74-84EF-B039E46F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25C-65E7-4CC9-801E-55FFAC6A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274-FFBF-4DB0-AE17-3B2F6EF4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B7F7-F9BB-4227-BD27-7EE3EF28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369-9819-4D9A-BEE9-4DA8C6C4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7ACB-8B9C-4B6F-A95F-663DADB6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8C3-B23C-4963-A9AF-522CBA4B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AA1-6877-4560-BCA4-DCB5C153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E16-B627-40DF-9B72-F6501096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3DA-B3EB-4BB8-843C-FEDA9872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CBC-2274-4332-8C3C-CED50E34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25D1-8DC8-433F-BCB9-8D47A476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5713560"/>
            <a:ext cx="9144000" cy="1144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27280" y="6359040"/>
            <a:ext cx="2086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3E21-9AE6-44B6-B301-0F0696CB8D2E}" type="datetime"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B92C-BB01-4D78-B140-43FEC5354C92}" type="slidenum"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3" descr=""/>
          <p:cNvPicPr/>
          <p:nvPr/>
        </p:nvPicPr>
        <p:blipFill>
          <a:blip r:embed="rId4"/>
          <a:stretch/>
        </p:blipFill>
        <p:spPr>
          <a:xfrm>
            <a:off x="0" y="5713560"/>
            <a:ext cx="9144000" cy="114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jpeg"/><Relationship Id="rId3" Type="http://schemas.openxmlformats.org/officeDocument/2006/relationships/hyperlink" Target="http://www.wlink-co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灯片编号占位符 2"/>
          <p:cNvSpPr/>
          <p:nvPr/>
        </p:nvSpPr>
        <p:spPr>
          <a:xfrm>
            <a:off x="8582040" y="63817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5876-B0E2-4A8E-ACC3-6BA99A1AA4D2}" type="slidenum"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796000" y="1268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线生活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限精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1476360" y="2133720"/>
            <a:ext cx="612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66"/>
                </a:solidFill>
                <a:latin typeface="Tahoma"/>
                <a:ea typeface="Tahoma"/>
              </a:rPr>
              <a:t>WLINK</a:t>
            </a:r>
            <a:r>
              <a:rPr b="1" i="1" lang="en-US" sz="54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i="1" lang="zh-CN" sz="5400" spc="-1" strike="noStrike">
                <a:solidFill>
                  <a:srgbClr val="000066"/>
                </a:solidFill>
                <a:latin typeface="Arial"/>
              </a:rPr>
              <a:t>萬聯科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Palatino Linotype"/>
              </a:rPr>
              <a:t>              </a:t>
            </a:r>
            <a:r>
              <a:rPr b="1" lang="en-US" sz="3600" spc="-1" strike="noStrike">
                <a:solidFill>
                  <a:srgbClr val="002060"/>
                </a:solidFill>
                <a:latin typeface="Palatino Linotype"/>
              </a:rPr>
              <a:t>POS</a:t>
            </a:r>
            <a:r>
              <a:rPr b="1" lang="zh-CN" sz="3600" spc="-1" strike="noStrike">
                <a:solidFill>
                  <a:srgbClr val="002060"/>
                </a:solidFill>
                <a:latin typeface="Palatino Linotype"/>
              </a:rPr>
              <a:t>机推广方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@UC19D7(P72811UT8_2RLZE"/>
          <p:cNvPicPr/>
          <p:nvPr/>
        </p:nvPicPr>
        <p:blipFill>
          <a:blip r:embed="rId1"/>
          <a:stretch/>
        </p:blipFill>
        <p:spPr>
          <a:xfrm>
            <a:off x="5364000" y="115920"/>
            <a:ext cx="2857680" cy="111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2355840" y="3645000"/>
            <a:ext cx="1279440" cy="223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3"/>
          <a:stretch/>
        </p:blipFill>
        <p:spPr>
          <a:xfrm>
            <a:off x="4599000" y="3573360"/>
            <a:ext cx="14857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2"/>
          <p:cNvSpPr/>
          <p:nvPr/>
        </p:nvSpPr>
        <p:spPr>
          <a:xfrm>
            <a:off x="8582040" y="63817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4ECA-7094-44FF-AB74-7D1CFF0CD5E4}" type="slidenum"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6012000" y="119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线生活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限精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@UC19D7(P72811UT8_2RLZE"/>
          <p:cNvPicPr/>
          <p:nvPr/>
        </p:nvPicPr>
        <p:blipFill>
          <a:blip r:embed="rId1"/>
          <a:stretch/>
        </p:blipFill>
        <p:spPr>
          <a:xfrm>
            <a:off x="5940360" y="333360"/>
            <a:ext cx="2303640" cy="898560"/>
          </a:xfrm>
          <a:prstGeom prst="rect">
            <a:avLst/>
          </a:prstGeom>
          <a:ln w="0">
            <a:noFill/>
          </a:ln>
        </p:spPr>
      </p:pic>
      <p:sp>
        <p:nvSpPr>
          <p:cNvPr id="155" name="矩形 3"/>
          <p:cNvSpPr/>
          <p:nvPr/>
        </p:nvSpPr>
        <p:spPr>
          <a:xfrm>
            <a:off x="1343520" y="2349360"/>
            <a:ext cx="5034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软件集成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NOR flas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启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升级，以及空口升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-The-Ai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程序补丁操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两个连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速率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MHz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 cortex M3 M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集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2KB ROM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4KB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590040" y="62064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S6600</a:t>
            </a:r>
            <a:r>
              <a:rPr b="1" lang="zh-CN" sz="1800" spc="-1" strike="noStrike">
                <a:solidFill>
                  <a:srgbClr val="000000"/>
                </a:solidFill>
                <a:latin typeface="Palatino Linotype"/>
              </a:rPr>
              <a:t>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1619280" y="2222640"/>
            <a:ext cx="5829120" cy="26193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58" name="灯片编号占位符 2"/>
          <p:cNvSpPr/>
          <p:nvPr/>
        </p:nvSpPr>
        <p:spPr>
          <a:xfrm>
            <a:off x="8582040" y="63817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2E03-7C4E-49EB-82FB-B500BDFCB395}" type="slidenum"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5940360" y="119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线生活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限精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3286080" y="2809800"/>
            <a:ext cx="388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Palatino Linotype"/>
              </a:rPr>
              <a:t>谢谢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@UC19D7(P72811UT8_2RLZE"/>
          <p:cNvPicPr/>
          <p:nvPr/>
        </p:nvPicPr>
        <p:blipFill>
          <a:blip r:embed="rId2"/>
          <a:stretch/>
        </p:blipFill>
        <p:spPr>
          <a:xfrm>
            <a:off x="5867280" y="333360"/>
            <a:ext cx="2303640" cy="898560"/>
          </a:xfrm>
          <a:prstGeom prst="rect">
            <a:avLst/>
          </a:prstGeom>
          <a:ln w="0">
            <a:noFill/>
          </a:ln>
        </p:spPr>
      </p:pic>
      <p:sp>
        <p:nvSpPr>
          <p:cNvPr id="162" name="矩形 7"/>
          <p:cNvSpPr/>
          <p:nvPr/>
        </p:nvSpPr>
        <p:spPr>
          <a:xfrm>
            <a:off x="2556000" y="4941720"/>
            <a:ext cx="444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  <a:ea typeface="微軟正黑體"/>
              </a:rPr>
              <a:t>Contact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74b78"/>
                </a:solidFill>
                <a:latin typeface="Arial"/>
                <a:ea typeface="微軟正黑體"/>
              </a:rPr>
              <a:t>Website: </a:t>
            </a:r>
            <a:r>
              <a:rPr b="0" lang="en-US" sz="1200" spc="-1" strike="noStrike" u="sng">
                <a:solidFill>
                  <a:srgbClr val="5f5f5f"/>
                </a:solidFill>
                <a:uFillTx/>
                <a:latin typeface="Arial"/>
                <a:ea typeface="微軟正黑體"/>
                <a:hlinkClick r:id="rId3"/>
              </a:rPr>
              <a:t>www.wlink-c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74b78"/>
                </a:solidFill>
                <a:latin typeface="Arial"/>
                <a:ea typeface="微軟正黑體"/>
              </a:rPr>
              <a:t>Taiwan H/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74b78"/>
                </a:solidFill>
                <a:latin typeface="Arial"/>
                <a:ea typeface="微軟正黑體"/>
              </a:rPr>
              <a:t>No.46, Aly. 108- 3, Ln. 445, Sec. 2, Meishi Rd., Yangmei , Taoyuan, Taiw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74b78"/>
                </a:solidFill>
                <a:latin typeface="Arial"/>
                <a:ea typeface="微軟正黑體"/>
              </a:rPr>
              <a:t>TEL: +886-3-4811534(re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74b78"/>
                </a:solidFill>
                <a:latin typeface="Arial"/>
                <a:ea typeface="微軟正黑體"/>
              </a:rPr>
              <a:t>TEL:+86-135107705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灯片编号占位符 2"/>
          <p:cNvSpPr/>
          <p:nvPr/>
        </p:nvSpPr>
        <p:spPr>
          <a:xfrm>
            <a:off x="8582040" y="63817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6BC9-0E26-4364-BA60-A3EF0AC2764C}" type="slidenum"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5940360" y="1484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线生活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限精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@UC19D7(P72811UT8_2RLZE"/>
          <p:cNvPicPr/>
          <p:nvPr/>
        </p:nvPicPr>
        <p:blipFill>
          <a:blip r:embed="rId1"/>
          <a:stretch/>
        </p:blipFill>
        <p:spPr>
          <a:xfrm>
            <a:off x="5867280" y="620640"/>
            <a:ext cx="2303640" cy="898560"/>
          </a:xfrm>
          <a:prstGeom prst="rect">
            <a:avLst/>
          </a:prstGeom>
          <a:ln w="0">
            <a:noFill/>
          </a:ln>
        </p:spPr>
      </p:pic>
      <p:sp>
        <p:nvSpPr>
          <p:cNvPr id="61" name="矩形 15"/>
          <p:cNvSpPr/>
          <p:nvPr/>
        </p:nvSpPr>
        <p:spPr>
          <a:xfrm>
            <a:off x="415080" y="1700280"/>
            <a:ext cx="12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POS</a:t>
            </a:r>
            <a:r>
              <a:rPr b="1" lang="zh-CN" sz="1800" spc="-1" strike="noStrike">
                <a:solidFill>
                  <a:srgbClr val="000000"/>
                </a:solidFill>
                <a:latin typeface="Palatino Linotype"/>
              </a:rPr>
              <a:t>机发展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3"/>
          <p:cNvSpPr/>
          <p:nvPr/>
        </p:nvSpPr>
        <p:spPr>
          <a:xfrm>
            <a:off x="2411280" y="306864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Palatino Linotype"/>
              </a:rPr>
              <a:t>磁条接触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Palatino Linotype"/>
              </a:rPr>
              <a:t>蓝牙传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灯片编号占位符 2"/>
          <p:cNvSpPr/>
          <p:nvPr/>
        </p:nvSpPr>
        <p:spPr>
          <a:xfrm>
            <a:off x="8582040" y="63817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4D45-93C6-41DA-9E76-CC56F6C880E0}" type="slidenum"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6012000" y="1125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线生活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限精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5"/>
          <p:cNvSpPr/>
          <p:nvPr/>
        </p:nvSpPr>
        <p:spPr>
          <a:xfrm>
            <a:off x="368280" y="111600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alatino Linotype"/>
              </a:rPr>
              <a:t>刷卡机系统架构图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74" descr="@UC19D7(P72811UT8_2RLZE"/>
          <p:cNvPicPr/>
          <p:nvPr/>
        </p:nvPicPr>
        <p:blipFill>
          <a:blip r:embed="rId1"/>
          <a:stretch/>
        </p:blipFill>
        <p:spPr>
          <a:xfrm>
            <a:off x="6012000" y="333360"/>
            <a:ext cx="2232000" cy="8701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4"/>
          <p:cNvGrpSpPr/>
          <p:nvPr/>
        </p:nvGrpSpPr>
        <p:grpSpPr>
          <a:xfrm>
            <a:off x="324000" y="1628640"/>
            <a:ext cx="8222760" cy="4062240"/>
            <a:chOff x="324000" y="1628640"/>
            <a:chExt cx="8222760" cy="4062240"/>
          </a:xfrm>
        </p:grpSpPr>
        <p:pic>
          <p:nvPicPr>
            <p:cNvPr id="68" name="Picture 11" descr=""/>
            <p:cNvPicPr/>
            <p:nvPr/>
          </p:nvPicPr>
          <p:blipFill>
            <a:blip r:embed="rId2"/>
            <a:stretch/>
          </p:blipFill>
          <p:spPr>
            <a:xfrm rot="5400000">
              <a:off x="4294080" y="4055400"/>
              <a:ext cx="47772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Rectangle 13"/>
            <p:cNvSpPr/>
            <p:nvPr/>
          </p:nvSpPr>
          <p:spPr>
            <a:xfrm>
              <a:off x="2602800" y="1723320"/>
              <a:ext cx="4153320" cy="3714840"/>
            </a:xfrm>
            <a:prstGeom prst="rect">
              <a:avLst/>
            </a:prstGeom>
            <a:solidFill>
              <a:srgbClr val="c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5"/>
            <p:cNvSpPr/>
            <p:nvPr/>
          </p:nvSpPr>
          <p:spPr>
            <a:xfrm rot="5400000">
              <a:off x="2896920" y="3260880"/>
              <a:ext cx="587880" cy="37080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>
              <a:off x="4786920" y="3071880"/>
              <a:ext cx="1890000" cy="162360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ltiple Smart Car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Interface 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2687040" y="4025880"/>
              <a:ext cx="1378440" cy="12834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DFKai-SB"/>
                </a:rPr>
                <a:t>P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DFKai-SB"/>
                </a:rPr>
                <a:t>Main Ch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DFKai-SB"/>
                </a:rPr>
                <a:t>M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DFKai-SB"/>
                </a:rPr>
                <a:t>(Decod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12" descr=""/>
            <p:cNvPicPr/>
            <p:nvPr/>
          </p:nvPicPr>
          <p:blipFill>
            <a:blip r:embed="rId3"/>
            <a:stretch/>
          </p:blipFill>
          <p:spPr>
            <a:xfrm>
              <a:off x="324000" y="1723320"/>
              <a:ext cx="1626480" cy="26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AutoShape 14"/>
            <p:cNvSpPr/>
            <p:nvPr/>
          </p:nvSpPr>
          <p:spPr>
            <a:xfrm>
              <a:off x="2079000" y="2169720"/>
              <a:ext cx="523440" cy="41580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19" descr=""/>
            <p:cNvPicPr/>
            <p:nvPr/>
          </p:nvPicPr>
          <p:blipFill>
            <a:blip r:embed="rId4"/>
            <a:stretch/>
          </p:blipFill>
          <p:spPr>
            <a:xfrm>
              <a:off x="324000" y="4328280"/>
              <a:ext cx="1626480" cy="7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0" descr=""/>
            <p:cNvPicPr/>
            <p:nvPr/>
          </p:nvPicPr>
          <p:blipFill>
            <a:blip r:embed="rId5"/>
            <a:stretch/>
          </p:blipFill>
          <p:spPr>
            <a:xfrm>
              <a:off x="7012080" y="1628640"/>
              <a:ext cx="1534680" cy="40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0" descr=""/>
            <p:cNvPicPr/>
            <p:nvPr/>
          </p:nvPicPr>
          <p:blipFill>
            <a:blip r:embed="rId6"/>
            <a:stretch/>
          </p:blipFill>
          <p:spPr>
            <a:xfrm>
              <a:off x="6788520" y="3577320"/>
              <a:ext cx="802440" cy="5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AutoShape 23"/>
            <p:cNvSpPr/>
            <p:nvPr/>
          </p:nvSpPr>
          <p:spPr>
            <a:xfrm rot="10800000">
              <a:off x="2079000" y="4668120"/>
              <a:ext cx="523440" cy="41580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2717640" y="2009880"/>
              <a:ext cx="2107440" cy="1015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MSR </a:t>
              </a: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AF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矩形 1"/>
          <p:cNvSpPr/>
          <p:nvPr/>
        </p:nvSpPr>
        <p:spPr>
          <a:xfrm>
            <a:off x="870480" y="5396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alatino Linotype"/>
              </a:rPr>
              <a:t>一、传统刷卡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灯片编号占位符 2"/>
          <p:cNvSpPr/>
          <p:nvPr/>
        </p:nvSpPr>
        <p:spPr>
          <a:xfrm>
            <a:off x="8582040" y="63817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3512-1094-4476-A90A-79AFC3287A18}" type="slidenum"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5940360" y="119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线生活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限精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@UC19D7(P72811UT8_2RLZE"/>
          <p:cNvPicPr/>
          <p:nvPr/>
        </p:nvPicPr>
        <p:blipFill>
          <a:blip r:embed="rId1"/>
          <a:stretch/>
        </p:blipFill>
        <p:spPr>
          <a:xfrm>
            <a:off x="5940360" y="333360"/>
            <a:ext cx="2303640" cy="898560"/>
          </a:xfrm>
          <a:prstGeom prst="rect">
            <a:avLst/>
          </a:prstGeom>
          <a:ln w="0">
            <a:noFill/>
          </a:ln>
        </p:spPr>
      </p:pic>
      <p:sp>
        <p:nvSpPr>
          <p:cNvPr id="84" name="矩形 1"/>
          <p:cNvSpPr/>
          <p:nvPr/>
        </p:nvSpPr>
        <p:spPr>
          <a:xfrm>
            <a:off x="946440" y="1125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alatino Linotype"/>
              </a:rPr>
              <a:t>刷卡系统方框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324000" y="1486080"/>
            <a:ext cx="7619760" cy="759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2590920" y="3886200"/>
            <a:ext cx="3635280" cy="240840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26"/>
          <p:cNvGrpSpPr/>
          <p:nvPr/>
        </p:nvGrpSpPr>
        <p:grpSpPr>
          <a:xfrm>
            <a:off x="304920" y="1676520"/>
            <a:ext cx="8457840" cy="3483000"/>
            <a:chOff x="304920" y="1676520"/>
            <a:chExt cx="8457840" cy="3483000"/>
          </a:xfrm>
        </p:grpSpPr>
        <p:sp>
          <p:nvSpPr>
            <p:cNvPr id="88" name="Rectangle 2"/>
            <p:cNvSpPr/>
            <p:nvPr/>
          </p:nvSpPr>
          <p:spPr>
            <a:xfrm>
              <a:off x="1981080" y="1676520"/>
              <a:ext cx="5028120" cy="1984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6"/>
            <p:cNvSpPr/>
            <p:nvPr/>
          </p:nvSpPr>
          <p:spPr>
            <a:xfrm>
              <a:off x="2391840" y="1820880"/>
              <a:ext cx="1956240" cy="1656000"/>
            </a:xfrm>
            <a:prstGeom prst="rect">
              <a:avLst/>
            </a:prstGeom>
            <a:noFill/>
            <a:ln w="2232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1674360" y="2468520"/>
              <a:ext cx="651240" cy="43200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304920" y="1676520"/>
              <a:ext cx="1369080" cy="3483000"/>
              <a:chOff x="304920" y="1676520"/>
              <a:chExt cx="1369080" cy="3483000"/>
            </a:xfrm>
          </p:grpSpPr>
          <p:pic>
            <p:nvPicPr>
              <p:cNvPr id="92" name="Picture 7" descr=""/>
              <p:cNvPicPr/>
              <p:nvPr/>
            </p:nvPicPr>
            <p:blipFill>
              <a:blip r:embed="rId3">
                <a:lum contrast="12000"/>
              </a:blip>
              <a:srcRect l="54791" t="23000" r="35750" b="50654"/>
              <a:stretch/>
            </p:blipFill>
            <p:spPr>
              <a:xfrm>
                <a:off x="566280" y="1676520"/>
                <a:ext cx="1107720" cy="187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8" descr=""/>
              <p:cNvPicPr/>
              <p:nvPr/>
            </p:nvPicPr>
            <p:blipFill>
              <a:blip r:embed="rId4"/>
              <a:srcRect l="12189" t="41878" r="83599" b="48245"/>
              <a:stretch/>
            </p:blipFill>
            <p:spPr>
              <a:xfrm>
                <a:off x="304920" y="3548160"/>
                <a:ext cx="873720" cy="161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4" name="AutoShape 9"/>
            <p:cNvSpPr/>
            <p:nvPr/>
          </p:nvSpPr>
          <p:spPr>
            <a:xfrm>
              <a:off x="4413240" y="2540160"/>
              <a:ext cx="715680" cy="43164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25"/>
            <p:cNvGrpSpPr/>
            <p:nvPr/>
          </p:nvGrpSpPr>
          <p:grpSpPr>
            <a:xfrm>
              <a:off x="2456640" y="2001960"/>
              <a:ext cx="1694160" cy="1331280"/>
              <a:chOff x="2456640" y="2001960"/>
              <a:chExt cx="1694160" cy="1331280"/>
            </a:xfrm>
          </p:grpSpPr>
          <p:sp>
            <p:nvSpPr>
              <p:cNvPr id="96" name="Rectangle 12"/>
              <p:cNvSpPr/>
              <p:nvPr/>
            </p:nvSpPr>
            <p:spPr>
              <a:xfrm>
                <a:off x="2456640" y="2001960"/>
                <a:ext cx="1159920" cy="13078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ahoma"/>
                  </a:rPr>
                  <a:t>PF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5291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utoShape 13"/>
              <p:cNvSpPr/>
              <p:nvPr/>
            </p:nvSpPr>
            <p:spPr>
              <a:xfrm rot="16200000">
                <a:off x="3195000" y="2377440"/>
                <a:ext cx="1309320" cy="602280"/>
              </a:xfrm>
              <a:prstGeom prst="flowChartOffpageConnector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CP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ahoma"/>
                  </a:rPr>
                  <a:t>F2FOU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F2FOUT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F2FOUT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Rectangle 15"/>
            <p:cNvSpPr/>
            <p:nvPr/>
          </p:nvSpPr>
          <p:spPr>
            <a:xfrm>
              <a:off x="5182200" y="2108160"/>
              <a:ext cx="1305000" cy="12938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DFKai-SB"/>
                  <a:ea typeface="DFKai-SB"/>
                </a:rPr>
                <a:t>(</a:t>
              </a:r>
              <a:r>
                <a:rPr b="0" lang="zh-CN" sz="1600" spc="-1" strike="noStrike">
                  <a:solidFill>
                    <a:srgbClr val="000000"/>
                  </a:solidFill>
                  <a:latin typeface="DFKai-SB"/>
                  <a:ea typeface="DFKai-SB"/>
                </a:rPr>
                <a:t>解碼</a:t>
              </a:r>
              <a:r>
                <a:rPr b="0" lang="en-US" sz="1600" spc="-1" strike="noStrike">
                  <a:solidFill>
                    <a:srgbClr val="000000"/>
                  </a:solidFill>
                  <a:latin typeface="DFKai-SB"/>
                  <a:ea typeface="DFKai-SB"/>
                </a:rPr>
                <a:t>&amp;</a:t>
              </a:r>
              <a:r>
                <a:rPr b="0" lang="zh-CN" sz="1600" spc="-1" strike="noStrike">
                  <a:solidFill>
                    <a:srgbClr val="000000"/>
                  </a:solidFill>
                  <a:latin typeface="DFKai-SB"/>
                  <a:ea typeface="DFKai-SB"/>
                </a:rPr>
                <a:t>编码</a:t>
              </a:r>
              <a:r>
                <a:rPr b="0" lang="en-US" sz="1600" spc="-1" strike="noStrike">
                  <a:solidFill>
                    <a:srgbClr val="000000"/>
                  </a:solidFill>
                  <a:latin typeface="DFKai-SB"/>
                  <a:ea typeface="DFKai-SB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DFKai-SB"/>
                </a:rPr>
                <a:t>STM3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7"/>
            <p:cNvSpPr/>
            <p:nvPr/>
          </p:nvSpPr>
          <p:spPr>
            <a:xfrm>
              <a:off x="7457760" y="2092320"/>
              <a:ext cx="1305000" cy="129564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DFKai-SB"/>
                  <a:ea typeface="DFKai-SB"/>
                </a:rPr>
                <a:t>数据储存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DFKai-SB"/>
                  <a:ea typeface="DFKai-SB"/>
                </a:rPr>
                <a:t>比对及终端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DFKai-SB"/>
                  <a:ea typeface="DFKai-SB"/>
                </a:rPr>
                <a:t>单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1"/>
            <p:cNvSpPr/>
            <p:nvPr/>
          </p:nvSpPr>
          <p:spPr>
            <a:xfrm>
              <a:off x="566640" y="1676520"/>
              <a:ext cx="110772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2"/>
            <p:cNvSpPr/>
            <p:nvPr/>
          </p:nvSpPr>
          <p:spPr>
            <a:xfrm>
              <a:off x="3435480" y="3187800"/>
              <a:ext cx="717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23"/>
            <p:cNvSpPr/>
            <p:nvPr/>
          </p:nvSpPr>
          <p:spPr>
            <a:xfrm>
              <a:off x="4191840" y="299268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Times New Roman"/>
                </a:rPr>
                <a:t>F2F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23"/>
          <p:cNvSpPr/>
          <p:nvPr/>
        </p:nvSpPr>
        <p:spPr>
          <a:xfrm>
            <a:off x="6324480" y="29718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U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6705720" y="2540160"/>
            <a:ext cx="715680" cy="43164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5"/>
          <p:cNvSpPr/>
          <p:nvPr/>
        </p:nvSpPr>
        <p:spPr>
          <a:xfrm>
            <a:off x="3886200" y="4952880"/>
            <a:ext cx="685800" cy="6098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7"/>
          <p:cNvSpPr/>
          <p:nvPr/>
        </p:nvSpPr>
        <p:spPr>
          <a:xfrm>
            <a:off x="5129280" y="4516560"/>
            <a:ext cx="357120" cy="3603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線接點 28"/>
          <p:cNvSpPr/>
          <p:nvPr/>
        </p:nvSpPr>
        <p:spPr>
          <a:xfrm>
            <a:off x="5486400" y="4695840"/>
            <a:ext cx="990720" cy="1825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線接點 32"/>
          <p:cNvSpPr/>
          <p:nvPr/>
        </p:nvSpPr>
        <p:spPr>
          <a:xfrm flipH="1">
            <a:off x="1999800" y="5257800"/>
            <a:ext cx="188604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5"/>
          <p:cNvSpPr/>
          <p:nvPr/>
        </p:nvSpPr>
        <p:spPr>
          <a:xfrm>
            <a:off x="4876920" y="3843360"/>
            <a:ext cx="990360" cy="3477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6477120" y="4724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PF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52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線接點 39"/>
          <p:cNvSpPr/>
          <p:nvPr/>
        </p:nvSpPr>
        <p:spPr>
          <a:xfrm>
            <a:off x="5867280" y="3976560"/>
            <a:ext cx="990720" cy="907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6858000" y="391464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HEAD I/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1371600" y="5102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7"/>
          <p:cNvSpPr/>
          <p:nvPr/>
        </p:nvSpPr>
        <p:spPr>
          <a:xfrm>
            <a:off x="4152960" y="3843360"/>
            <a:ext cx="495360" cy="3477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線接點 48"/>
          <p:cNvSpPr/>
          <p:nvPr/>
        </p:nvSpPr>
        <p:spPr>
          <a:xfrm flipH="1">
            <a:off x="2152800" y="4016520"/>
            <a:ext cx="2000160" cy="219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1371600" y="388296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U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406520" y="2895480"/>
            <a:ext cx="11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Times New Roman"/>
              </a:rPr>
              <a:t>HEAD I/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灯片编号占位符 2"/>
          <p:cNvSpPr/>
          <p:nvPr/>
        </p:nvSpPr>
        <p:spPr>
          <a:xfrm>
            <a:off x="8582040" y="63817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6BA5-275B-41ED-A9E4-3703718E687C}" type="slidenum"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6012000" y="119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线生活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限精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@UC19D7(P72811UT8_2RLZE"/>
          <p:cNvPicPr/>
          <p:nvPr/>
        </p:nvPicPr>
        <p:blipFill>
          <a:blip r:embed="rId1"/>
          <a:stretch/>
        </p:blipFill>
        <p:spPr>
          <a:xfrm>
            <a:off x="6012000" y="333360"/>
            <a:ext cx="2303280" cy="89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44480" y="1666800"/>
          <a:ext cx="7067520" cy="5578560"/>
        </p:xfrm>
        <a:graphic>
          <a:graphicData uri="http://schemas.openxmlformats.org/drawingml/2006/table">
            <a:tbl>
              <a:tblPr/>
              <a:tblGrid>
                <a:gridCol w="2355840"/>
                <a:gridCol w="235584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产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磁卡解码芯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磁卡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&amp;IC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卡复合芯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型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宋体"/>
                        </a:rPr>
                        <a:t>PF52912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宋体"/>
                        </a:rPr>
                        <a:t>PF52922/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封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QFN16(4*4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QFN24(4*4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8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标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SO78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SO7811&amp;78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电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7V-5.5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7V-5.5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8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电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休眠电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8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温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40--8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40—8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ec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接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F2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F2F&amp;I²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grammable Smart card power supply and CCLK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8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特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G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GC/Direct Level Shifters/Short circuit current limitation/Synchronous Card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2"/>
          <p:cNvSpPr/>
          <p:nvPr/>
        </p:nvSpPr>
        <p:spPr>
          <a:xfrm>
            <a:off x="8582040" y="63817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9A53-0725-4B9C-B7FE-FA413E936CC9}" type="slidenum"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6012000" y="119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线生活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限精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@UC19D7(P72811UT8_2RLZE"/>
          <p:cNvPicPr/>
          <p:nvPr/>
        </p:nvPicPr>
        <p:blipFill>
          <a:blip r:embed="rId1"/>
          <a:stretch/>
        </p:blipFill>
        <p:spPr>
          <a:xfrm>
            <a:off x="6012000" y="333360"/>
            <a:ext cx="2303280" cy="898560"/>
          </a:xfrm>
          <a:prstGeom prst="rect">
            <a:avLst/>
          </a:prstGeom>
          <a:ln w="0">
            <a:noFill/>
          </a:ln>
        </p:spPr>
      </p:pic>
      <p:sp>
        <p:nvSpPr>
          <p:cNvPr id="125" name="矩形 1"/>
          <p:cNvSpPr/>
          <p:nvPr/>
        </p:nvSpPr>
        <p:spPr>
          <a:xfrm>
            <a:off x="870480" y="5396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alatino Linotype"/>
              </a:rPr>
              <a:t>二、蓝牙刷卡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1041840" y="1052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alatino Linotype"/>
              </a:rPr>
              <a:t>蓝牙刷卡系统方框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11"/>
          <p:cNvSpPr/>
          <p:nvPr/>
        </p:nvSpPr>
        <p:spPr>
          <a:xfrm>
            <a:off x="3059280" y="2637000"/>
            <a:ext cx="1584000" cy="1871640"/>
          </a:xfrm>
          <a:custGeom>
            <a:avLst/>
            <a:gdLst>
              <a:gd name="textAreaLeft" fmla="*/ 77040 w 1584000"/>
              <a:gd name="textAreaRight" fmla="*/ 1506960 w 1584000"/>
              <a:gd name="textAreaTop" fmla="*/ 77040 h 1871640"/>
              <a:gd name="textAreaBottom" fmla="*/ 1794600 h 1871640"/>
            </a:gdLst>
            <a:ahLst/>
            <a:rect l="textAreaLeft" t="textAreaTop" r="textAreaRight" b="textAreaBottom"/>
            <a:pathLst>
              <a:path w="21600" h="25521">
                <a:moveTo>
                  <a:pt x="3600" y="0"/>
                </a:moveTo>
                <a:arcTo wR="3600" hR="3600" stAng="16200000" swAng="-5400000"/>
                <a:lnTo>
                  <a:pt x="0" y="21921"/>
                </a:lnTo>
                <a:arcTo wR="3600" hR="3600" stAng="10800000" swAng="-5400000"/>
                <a:lnTo>
                  <a:pt x="18000" y="255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S6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tex 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双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2"/>
          <p:cNvSpPr/>
          <p:nvPr/>
        </p:nvSpPr>
        <p:spPr>
          <a:xfrm>
            <a:off x="3359160" y="5084640"/>
            <a:ext cx="1008000" cy="7207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13"/>
          <p:cNvSpPr/>
          <p:nvPr/>
        </p:nvSpPr>
        <p:spPr>
          <a:xfrm>
            <a:off x="5435640" y="2133720"/>
            <a:ext cx="1440000" cy="934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智能卡接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14"/>
          <p:cNvSpPr/>
          <p:nvPr/>
        </p:nvSpPr>
        <p:spPr>
          <a:xfrm>
            <a:off x="5519880" y="3573360"/>
            <a:ext cx="1368360" cy="1656000"/>
          </a:xfrm>
          <a:custGeom>
            <a:avLst/>
            <a:gdLst>
              <a:gd name="textAreaLeft" fmla="*/ 66600 w 1368360"/>
              <a:gd name="textAreaRight" fmla="*/ 1301760 w 1368360"/>
              <a:gd name="textAreaTop" fmla="*/ 66600 h 1656000"/>
              <a:gd name="textAreaBottom" fmla="*/ 1589400 h 1656000"/>
            </a:gdLst>
            <a:ahLst/>
            <a:rect l="textAreaLeft" t="textAreaTop" r="textAreaRight" b="textAreaBottom"/>
            <a:pathLst>
              <a:path w="21600" h="26139">
                <a:moveTo>
                  <a:pt x="3600" y="0"/>
                </a:moveTo>
                <a:arcTo wR="3600" hR="3600" stAng="16200000" swAng="-5400000"/>
                <a:lnTo>
                  <a:pt x="0" y="22539"/>
                </a:lnTo>
                <a:arcTo wR="3600" hR="3600" stAng="10800000" swAng="-5400000"/>
                <a:lnTo>
                  <a:pt x="18000" y="261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磁卡驱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圆角矩形 15"/>
          <p:cNvSpPr/>
          <p:nvPr/>
        </p:nvSpPr>
        <p:spPr>
          <a:xfrm>
            <a:off x="971640" y="3105000"/>
            <a:ext cx="1008000" cy="9352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外部存储设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肘形连接符 18"/>
          <p:cNvCxnSpPr>
            <a:stCxn id="127" idx="3"/>
            <a:endCxn id="129" idx="1"/>
          </p:cNvCxnSpPr>
          <p:nvPr/>
        </p:nvCxnSpPr>
        <p:spPr>
          <a:xfrm flipV="1">
            <a:off x="4642920" y="2599560"/>
            <a:ext cx="793080" cy="97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3" name="形状 20"/>
          <p:cNvCxnSpPr/>
          <p:nvPr/>
        </p:nvCxnSpPr>
        <p:spPr>
          <a:xfrm flipH="1" rot="16200000">
            <a:off x="4878360" y="3735000"/>
            <a:ext cx="828000" cy="504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4" name="肘形连接符 22"/>
          <p:cNvCxnSpPr>
            <a:stCxn id="127" idx="1"/>
            <a:endCxn id="131" idx="3"/>
          </p:cNvCxnSpPr>
          <p:nvPr/>
        </p:nvCxnSpPr>
        <p:spPr>
          <a:xfrm rot="10800000">
            <a:off x="1978920" y="3571200"/>
            <a:ext cx="108036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35" name="肘形连接符 25"/>
          <p:cNvCxnSpPr>
            <a:stCxn id="128" idx="0"/>
            <a:endCxn id="127" idx="2"/>
          </p:cNvCxnSpPr>
          <p:nvPr/>
        </p:nvCxnSpPr>
        <p:spPr>
          <a:xfrm flipV="1" rot="16200000">
            <a:off x="3569040" y="4790160"/>
            <a:ext cx="576360" cy="13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27640" y="6359400"/>
            <a:ext cx="208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E2BB-F235-4460-892F-4FC428EF7F07}" type="datetime"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1730-8EEE-4D6E-9845-7E16F32D8FEC}" type="slidenum"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2"/>
          <p:cNvSpPr/>
          <p:nvPr/>
        </p:nvSpPr>
        <p:spPr>
          <a:xfrm>
            <a:off x="6012000" y="119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线生活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限精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@UC19D7(P72811UT8_2RLZE"/>
          <p:cNvPicPr/>
          <p:nvPr/>
        </p:nvPicPr>
        <p:blipFill>
          <a:blip r:embed="rId1"/>
          <a:stretch/>
        </p:blipFill>
        <p:spPr>
          <a:xfrm>
            <a:off x="6012000" y="333360"/>
            <a:ext cx="2303280" cy="898560"/>
          </a:xfrm>
          <a:prstGeom prst="rect">
            <a:avLst/>
          </a:prstGeom>
          <a:ln w="0">
            <a:noFill/>
          </a:ln>
        </p:spPr>
      </p:pic>
      <p:sp>
        <p:nvSpPr>
          <p:cNvPr id="140" name="矩形 1"/>
          <p:cNvSpPr/>
          <p:nvPr/>
        </p:nvSpPr>
        <p:spPr>
          <a:xfrm>
            <a:off x="1041840" y="1052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alatino Linotype"/>
              </a:rPr>
              <a:t>蓝牙刷卡机样机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2276640" y="2009880"/>
            <a:ext cx="45907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2"/>
          <p:cNvSpPr/>
          <p:nvPr/>
        </p:nvSpPr>
        <p:spPr>
          <a:xfrm>
            <a:off x="8582040" y="63817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B072-2F30-4C0F-A23C-2F3345D4811D}" type="slidenum"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5940360" y="119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线生活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限精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"/>
          <p:cNvSpPr/>
          <p:nvPr/>
        </p:nvSpPr>
        <p:spPr>
          <a:xfrm>
            <a:off x="1373400" y="1197000"/>
            <a:ext cx="4860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S6600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一款用于无线双模蓝牙收发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蓝牙兼容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完全支持蓝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准，具有双模控制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速率）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速率）和低功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4.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定义的所有包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适应调频机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蓝牙收发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dB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最大发射功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快速自动增益控制电路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解调技术提高灵敏度和同频干扰抑制性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增强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F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干扰抑制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实时数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S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部集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具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/D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充电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支持高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m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快速充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外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MHz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晶体振荡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◆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部集成多用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bit 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@UC19D7(P72811UT8_2RLZE"/>
          <p:cNvPicPr/>
          <p:nvPr/>
        </p:nvPicPr>
        <p:blipFill>
          <a:blip r:embed="rId1"/>
          <a:stretch/>
        </p:blipFill>
        <p:spPr>
          <a:xfrm>
            <a:off x="5867280" y="333360"/>
            <a:ext cx="2303640" cy="898560"/>
          </a:xfrm>
          <a:prstGeom prst="rect">
            <a:avLst/>
          </a:prstGeom>
          <a:ln w="0">
            <a:noFill/>
          </a:ln>
        </p:spPr>
      </p:pic>
      <p:sp>
        <p:nvSpPr>
          <p:cNvPr id="146" name="矩形 1"/>
          <p:cNvSpPr/>
          <p:nvPr/>
        </p:nvSpPr>
        <p:spPr>
          <a:xfrm>
            <a:off x="590040" y="62064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S6600</a:t>
            </a:r>
            <a:r>
              <a:rPr b="1" lang="zh-CN" sz="1800" spc="-1" strike="noStrike">
                <a:solidFill>
                  <a:srgbClr val="000000"/>
                </a:solidFill>
                <a:latin typeface="Palatino Linotype"/>
              </a:rPr>
              <a:t>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2"/>
          <p:cNvSpPr/>
          <p:nvPr/>
        </p:nvSpPr>
        <p:spPr>
          <a:xfrm>
            <a:off x="8582040" y="63817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F09E-EA17-4F1C-B117-2226F82EC3A2}" type="slidenum"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6012000" y="119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线生活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限精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矩形 3" descr=""/>
          <p:cNvPicPr/>
          <p:nvPr/>
        </p:nvPicPr>
        <p:blipFill>
          <a:blip r:embed="rId1"/>
          <a:stretch/>
        </p:blipFill>
        <p:spPr>
          <a:xfrm>
            <a:off x="487440" y="1262160"/>
            <a:ext cx="7961400" cy="4814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@UC19D7(P72811UT8_2RLZE"/>
          <p:cNvPicPr/>
          <p:nvPr/>
        </p:nvPicPr>
        <p:blipFill>
          <a:blip r:embed="rId2"/>
          <a:stretch/>
        </p:blipFill>
        <p:spPr>
          <a:xfrm>
            <a:off x="5940360" y="333360"/>
            <a:ext cx="2303640" cy="898560"/>
          </a:xfrm>
          <a:prstGeom prst="rect">
            <a:avLst/>
          </a:prstGeom>
          <a:ln w="0">
            <a:noFill/>
          </a:ln>
        </p:spPr>
      </p:pic>
      <p:sp>
        <p:nvSpPr>
          <p:cNvPr id="151" name="矩形 1"/>
          <p:cNvSpPr/>
          <p:nvPr/>
        </p:nvSpPr>
        <p:spPr>
          <a:xfrm>
            <a:off x="590040" y="62064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HS6600</a:t>
            </a:r>
            <a:r>
              <a:rPr b="1" lang="zh-CN" sz="1800" spc="-1" strike="noStrike">
                <a:solidFill>
                  <a:srgbClr val="000000"/>
                </a:solidFill>
                <a:latin typeface="Palatino Linotype"/>
              </a:rPr>
              <a:t>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1T17:30:14Z</dcterms:created>
  <dc:creator>lenovo</dc:creator>
  <dc:description/>
  <dc:language>en-US</dc:language>
  <cp:lastModifiedBy>abc</cp:lastModifiedBy>
  <cp:lastPrinted>2013-03-16T13:37:31Z</cp:lastPrinted>
  <dcterms:modified xsi:type="dcterms:W3CDTF">2016-05-09T09:10:06Z</dcterms:modified>
  <cp:revision>468</cp:revision>
  <dc:subject/>
  <dc:title>PowerPoint 演示文稿</dc:title>
</cp:coreProperties>
</file>